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041480" y="2018880"/>
            <a:ext cx="5333760" cy="133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041480" y="6369120"/>
            <a:ext cx="533376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774960" y="487656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04148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774960" y="6369120"/>
            <a:ext cx="26028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84508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48320" y="487656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0414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84508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648320" y="6369120"/>
            <a:ext cx="1717200" cy="13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22000" y="356832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6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6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6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6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6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6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7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8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7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041120" y="14727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de.state.ne.us/federalprograms/.../Student_Discipline_Act.pdf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47400" y="7247880"/>
            <a:ext cx="91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c68"/>
                </a:solidFill>
                <a:latin typeface="Helvetica Neue Bold Condensed"/>
                <a:ea typeface="Helvetica Neue Bold Condensed"/>
              </a:rPr>
              <a:t>PROJECT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7" name=""/>
          <p:cNvSpPr/>
          <p:nvPr/>
        </p:nvSpPr>
        <p:spPr>
          <a:xfrm>
            <a:off x="345600" y="8962200"/>
            <a:ext cx="56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c68"/>
                </a:solidFill>
                <a:latin typeface="Helvetica Neue Bold Condensed"/>
                <a:ea typeface="Helvetica Neue Bold Condensed"/>
              </a:rPr>
              <a:t>DATE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8" name=""/>
          <p:cNvSpPr/>
          <p:nvPr/>
        </p:nvSpPr>
        <p:spPr>
          <a:xfrm>
            <a:off x="5309280" y="8962200"/>
            <a:ext cx="77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c68"/>
                </a:solidFill>
                <a:latin typeface="Helvetica Neue Bold Condensed"/>
                <a:ea typeface="Helvetica Neue Bold Condensed"/>
              </a:rPr>
              <a:t>CLIENT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9" name=""/>
          <p:cNvSpPr/>
          <p:nvPr/>
        </p:nvSpPr>
        <p:spPr>
          <a:xfrm>
            <a:off x="1312200" y="8957160"/>
            <a:ext cx="246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  <a:ea typeface="Helvetica Neue Bold Condensed"/>
              </a:rPr>
              <a:t>23 JULY 2009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0" name=""/>
          <p:cNvSpPr/>
          <p:nvPr/>
        </p:nvSpPr>
        <p:spPr>
          <a:xfrm>
            <a:off x="6237360" y="8957160"/>
            <a:ext cx="1855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  <a:ea typeface="Helvetica Neue Bold Condensed"/>
              </a:rPr>
              <a:t>GROUP 2 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rcRect l="9533" t="0" r="9533" b="0"/>
          <a:stretch/>
        </p:blipFill>
        <p:spPr>
          <a:xfrm>
            <a:off x="368280" y="368280"/>
            <a:ext cx="4851360" cy="673092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3"/>
          <a:srcRect l="25976" t="0" r="26098" b="0"/>
          <a:stretch/>
        </p:blipFill>
        <p:spPr>
          <a:xfrm>
            <a:off x="7785000" y="368280"/>
            <a:ext cx="4851360" cy="673092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4"/>
          <a:srcRect l="5489" t="6787" r="5757" b="0"/>
          <a:stretch/>
        </p:blipFill>
        <p:spPr>
          <a:xfrm>
            <a:off x="5295960" y="368280"/>
            <a:ext cx="2413080" cy="331488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5"/>
          <a:srcRect l="26958" t="0" r="25182" b="0"/>
          <a:stretch/>
        </p:blipFill>
        <p:spPr>
          <a:xfrm>
            <a:off x="5295960" y="3772080"/>
            <a:ext cx="2413080" cy="332712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72760" y="7480080"/>
            <a:ext cx="10845720" cy="1028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Student discipline ac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0" y="0"/>
            <a:ext cx="4876920" cy="6438960"/>
            <a:chOff x="0" y="0"/>
            <a:chExt cx="4876920" cy="6438960"/>
          </a:xfrm>
        </p:grpSpPr>
        <p:pic>
          <p:nvPicPr>
            <p:cNvPr id="757" name="" descr=""/>
            <p:cNvPicPr/>
            <p:nvPr/>
          </p:nvPicPr>
          <p:blipFill>
            <a:blip r:embed="rId2"/>
            <a:srcRect l="16076" t="0" r="15986" b="0"/>
            <a:stretch/>
          </p:blipFill>
          <p:spPr>
            <a:xfrm>
              <a:off x="88920" y="76320"/>
              <a:ext cx="4711680" cy="627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876920" cy="643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Purpose of Ac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o assure the protection of all students the constitutional right to due process and fundamental fairnes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Summary of Ac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629040" y="276840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e school may authorize an emergency exclusion, suspension, expulsion or mandatory reassignment of any pupil for conduct prohibited by the school’s policie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3"/>
          <a:stretch/>
        </p:blipFill>
        <p:spPr>
          <a:xfrm>
            <a:off x="647640" y="3274920"/>
            <a:ext cx="5676840" cy="4686480"/>
          </a:xfrm>
          <a:prstGeom prst="rect">
            <a:avLst/>
          </a:prstGeom>
          <a:ln w="0">
            <a:noFill/>
          </a:ln>
          <a:effectLst>
            <a:outerShdw dist="177681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Important Rules:</a:t>
            </a:r>
            <a:r>
              <a:rPr b="0" lang="en-US" sz="7800" spc="-1" strike="noStrike">
                <a:solidFill>
                  <a:srgbClr val="4a7594"/>
                </a:solidFill>
                <a:latin typeface="Helvetica Neue Light"/>
                <a:ea typeface="ヒラギノ角ゴ ProN W3"/>
              </a:rPr>
              <a:t>	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chool board must establish rules and standards regarding student conduct 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chools must attempt to carry out said rule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Rules must be distributed to each student and his/her parent or guardian at the beginning of the school year. 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41120" y="254160"/>
            <a:ext cx="10922040" cy="346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Procedures to be followed are outlined in detail for: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041120" y="356832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Emergency Exclus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hort-term Suspens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ng-term Suspens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Expuls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andatory Reassignmen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uty to Report Criminal Violation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41120" y="2044800"/>
            <a:ext cx="10922040" cy="759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chool authorities MUST notify law enforcement when they know or suspect that an act is a violation of the Nebraska Criminal Code (is illegal)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chool authorities will not be held liable as a result of any report unless: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report was false and they knew it was false when reporting i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e minor was in custody and the location where they were being held was dangerous and/or medical treatment was withheld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0" y="0"/>
            <a:ext cx="4457880" cy="5880240"/>
            <a:chOff x="0" y="0"/>
            <a:chExt cx="4457880" cy="5880240"/>
          </a:xfrm>
        </p:grpSpPr>
        <p:pic>
          <p:nvPicPr>
            <p:cNvPr id="771" name="" descr="">
              <a:hlinkClick r:id="rId2"/>
            </p:cNvPr>
            <p:cNvPicPr/>
            <p:nvPr/>
          </p:nvPicPr>
          <p:blipFill>
            <a:blip r:embed="rId3"/>
            <a:srcRect l="12444" t="0" r="12444" b="0"/>
            <a:stretch/>
          </p:blipFill>
          <p:spPr>
            <a:xfrm>
              <a:off x="88920" y="76320"/>
              <a:ext cx="429264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457880" cy="588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41480" y="812520"/>
            <a:ext cx="5333760" cy="500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Nebraska Student Discipline Ac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41480" y="605772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An outline of the Act may be downloaded  by clicking on the image to the right or at: 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83a6"/>
                </a:solidFill>
                <a:uFillTx/>
                <a:latin typeface="Helvetica Neue Bold Condensed"/>
              </a:rPr>
              <a:t>www.nde.state.ne.us/federalprograms/.../Student_Discipline_Act.pdf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